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0AF-A777-4A28-BEAA-CF62F0F1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EAE-C309-49C3-A79C-18F7DD3A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8E5-DCD3-4E5E-89C9-B9A59732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51A-1D99-4336-957E-35E063C4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1C6-0DF1-43D1-8FCD-1E369CC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7F1-C516-4F8B-86D0-8149C7E3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3AD-E9D8-40D2-A7DE-E17932F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002-DE4E-4367-B70A-CE420E2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029-7C4E-4960-BBE4-AF2E3BC7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FEE-C110-4355-BAEB-0A348626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42D-C944-4269-89C8-566A076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FE91-E8A5-4A71-B332-0ECF35E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023-17B4-4E92-B5D1-C56513651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XmasMusical-PP" descr=""/>
          <p:cNvPicPr/>
          <p:nvPr/>
        </p:nvPicPr>
        <p:blipFill>
          <a:blip r:embed="rId1"/>
          <a:stretch/>
        </p:blipFill>
        <p:spPr>
          <a:xfrm>
            <a:off x="0" y="95400"/>
            <a:ext cx="9177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5200"/>
            <a:ext cx="6705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Filipským 2:12-15</a:t>
            </a:r>
            <a:r>
              <a:rPr b="1" lang="cs-CZ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s bázní a chvěním uvádějte 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ve skutek své spasení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641520"/>
            <a:ext cx="6858000" cy="49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Římanům 8:21-24</a:t>
            </a:r>
            <a:r>
              <a:rPr b="1" lang="cs-CZ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Calibri"/>
              </a:rPr>
              <a:t>Když chci činit dobro, mám v dosahu </a:t>
            </a:r>
            <a:br>
              <a:rPr sz="3000"/>
            </a:b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Calibri"/>
              </a:rPr>
              <a:t>jen zlo. Ve své nejvnitřnější bytosti </a:t>
            </a:r>
            <a:br>
              <a:rPr sz="3000"/>
            </a:b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Calibri"/>
              </a:rPr>
              <a:t>s radostí souhlasím se zákonem Božím;  když však mám jednat, pozoruji, že jiný zákon vede boj proti zákonu, kterému se podřizuje má mysl, a činí mě zajatcem zákona hříchu, kterému se podřizují mé údy. </a:t>
            </a:r>
            <a:br>
              <a:rPr sz="3000"/>
            </a:br>
            <a:r>
              <a:rPr b="1" lang="cs-CZ" sz="3000" spc="-1" strike="noStrike">
                <a:solidFill>
                  <a:srgbClr val="ffffff"/>
                </a:solidFill>
                <a:latin typeface="Arial Narrow"/>
                <a:ea typeface="Calibri"/>
              </a:rPr>
              <a:t>Jak ubohý jsem to člověk! Kdo mě vysvobodí z tohoto těla smrti?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835200"/>
            <a:ext cx="6705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Gen 2:17 / 3:4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V den, kdy bys z něho pojedl, propadneš smrti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Nepropadnete smrti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41520"/>
            <a:ext cx="67057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II Korintskym 10:3-5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Jsme ovšem jenom lidé, ale svůj zápas nevedeme po lidsku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Zbraně našeho boje nejsou světské, nýbrž mají od Boha sílu bořit hradby. Jimi boříme lidské výmysly a všecko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co se v pýše pozvedá proti poznání Boha. Uvádíme do poddanství každou mysl, aby byla poslušna Krista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762120"/>
            <a:ext cx="6705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Římanům 12:2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nepřizpůsobujte se této době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nýbrž proměňujte se obnovou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své mysli, abyste mohli rozpoznat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co je vůle Boží, co je dobré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Bohu milé a dokonalé.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762120"/>
            <a:ext cx="6705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Jozue 1:8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Kniha tohoto zákona ať se nevzdálí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od tvých úst. Rozjímej nad ním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ve dne v noci, abys mohl bedlivě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plnit vše, co je v něm zapsáno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 Narrow"/>
                <a:ea typeface="Calibri"/>
              </a:rPr>
              <a:t>Potom tě bude na tvé cestě provázet zdar, potom budeš jednat prozíravě.</a:t>
            </a:r>
            <a:r>
              <a:rPr b="1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762120"/>
            <a:ext cx="670572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GENESIS 1:26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FILIPENSKÝM 4:13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JAN 3:16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Calibri"/>
              </a:rPr>
              <a:t>3. JANOVA 1:2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Calibri"/>
              </a:rPr>
              <a:t>ŘÍMANŮM 3:24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oxic_PP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86868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6:26:30Z</dcterms:created>
  <dc:creator/>
  <dc:description/>
  <dc:language>en-US</dc:language>
  <cp:lastModifiedBy>admin</cp:lastModifiedBy>
  <dcterms:modified xsi:type="dcterms:W3CDTF">2010-11-06T20:14:22Z</dcterms:modified>
  <cp:revision>144</cp:revision>
  <dc:subject/>
  <dc:title>Snímek 1</dc:title>
</cp:coreProperties>
</file>